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3DA4E-5C0F-49B5-A5F8-AEABD117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4B1A9-5511-42C6-ADE8-B9BC9C23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D284C-68FC-4E74-98FA-266A48A0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5D43A-3D45-4F7C-AE2F-4B4A7034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A8D5-29AF-4184-B1E0-7EC96239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6B16-1C64-49B8-9223-8416CE56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24F3-55D0-4D75-94B3-58273293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7607-2EA8-4D23-B05D-04834589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FFA7-C33D-4264-B1AA-DB10013D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1CD9-83A9-4772-8AF3-0B1619C3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C347-C197-4570-9DFD-4A1C61A8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68C40-00A2-483D-A672-62174194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38B6-8878-45A7-9CAF-3AF93695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EE36-E595-4D1B-B80A-FADCD11C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4738-90B4-4E17-ACC9-543C46BD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A884-467E-4488-A017-5B71C82D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D49E-FA5D-4B56-AC66-27305224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ACD70-0CEB-4167-8539-7A594170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8E24D-83E3-4BD3-9A43-937D298C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EA3A1-05A4-4904-9F68-5402B389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030DA-DE94-4F41-A21E-B8D8549D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0347E-FCB3-41E5-9C15-ADFA7A66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26AA1-6CBC-4F7A-8B9E-0F26736D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F1066-4235-4F47-9D71-A04AA991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C257-A088-4ED4-9744-01164833D8D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2968-5F50-4920-A1FB-901845012F4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40760"/>
            <a:ext cx="11279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9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8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йте тоз глас евангелски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мите на Христ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-сладки са от ангелск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мите на Христа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Кой се Мен наде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чно ще живее!"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Чудни слова, благи слова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мите на Христа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591480" y="1007640"/>
            <a:ext cx="7921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ги дава на грешнит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ез разлика на сан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тях заякчава слабит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секи е призван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чрез тях ще мог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достигна Бог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Чудни слова, благи слова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мите на Христа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54840" y="573840"/>
            <a:ext cx="792144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зи божествени слова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мите на Христ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дват от Бога в небес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мите на Христ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ието прощени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ват и спасение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Чудни слова, благи слова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мите на Христа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12-04T10:13:27Z</dcterms:modified>
  <cp:revision>11</cp:revision>
  <dc:subject/>
  <dc:title>Slide 1</dc:title>
</cp:coreProperties>
</file>